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7EC-E995-4145-9B83-D4B99819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DA2-B463-40CA-A094-5272F3D3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CC3-D066-405B-8B01-A380C628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120-9F93-4787-913B-297334A6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193-D7F2-4F09-8034-BD2002C3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7F1-1986-448A-8312-C7B38085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795-51BB-4707-BB95-E055976B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ED8-8D13-470C-A0C2-0B8AE48D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D39-9625-4A73-AD8F-8E26383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4F7-0F37-4BEA-956B-849B77A5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4B8-808E-4B03-AFA4-04C7A4D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8E5-B82C-4334-960A-B3D7B5E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0F23-3A6C-47EE-B2CF-BE5D77DD8D42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3286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9 класс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2214720"/>
            <a:ext cx="32860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1000080"/>
            <a:ext cx="43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Сложноподчинен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3708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места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где? куда? откуд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где, куда, отку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r>
              <a:rPr b="0" lang="ru-RU" sz="2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остановился там</a:t>
            </a:r>
            <a:r>
              <a:rPr b="0" lang="ru-RU" sz="2800" spc="-1" strike="noStrike">
                <a:solidFill>
                  <a:srgbClr val="7030a0"/>
                </a:solidFill>
                <a:latin typeface="Arial Black"/>
              </a:rPr>
              <a:t>,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где</a:t>
            </a:r>
            <a:r>
              <a:rPr b="0" lang="ru-RU" sz="2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олько что стоял лос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6" name="Стрелка вниз 3"/>
          <p:cNvGrpSpPr/>
          <p:nvPr/>
        </p:nvGrpSpPr>
        <p:grpSpPr>
          <a:xfrm>
            <a:off x="3359160" y="731880"/>
            <a:ext cx="768240" cy="1036440"/>
            <a:chOff x="3359160" y="731880"/>
            <a:chExt cx="768240" cy="1036440"/>
          </a:xfrm>
        </p:grpSpPr>
        <p:pic>
          <p:nvPicPr>
            <p:cNvPr id="107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3359160" y="731880"/>
              <a:ext cx="7682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2417600">
              <a:off x="3600000" y="824760"/>
              <a:ext cx="243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Прямоугольник 4"/>
          <p:cNvSpPr/>
          <p:nvPr/>
        </p:nvSpPr>
        <p:spPr>
          <a:xfrm>
            <a:off x="179280" y="2133720"/>
            <a:ext cx="345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Стрелка вправо 5"/>
          <p:cNvGrpSpPr/>
          <p:nvPr/>
        </p:nvGrpSpPr>
        <p:grpSpPr>
          <a:xfrm>
            <a:off x="2992320" y="2371680"/>
            <a:ext cx="1006560" cy="804960"/>
            <a:chOff x="2992320" y="2371680"/>
            <a:chExt cx="1006560" cy="804960"/>
          </a:xfrm>
        </p:grpSpPr>
        <p:pic>
          <p:nvPicPr>
            <p:cNvPr id="111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92320" y="2371680"/>
              <a:ext cx="10065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689600">
              <a:off x="3050640" y="2650680"/>
              <a:ext cx="85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трелка вправо 6"/>
          <p:cNvGrpSpPr/>
          <p:nvPr/>
        </p:nvGrpSpPr>
        <p:grpSpPr>
          <a:xfrm>
            <a:off x="3303720" y="3780000"/>
            <a:ext cx="884160" cy="895320"/>
            <a:chOff x="3303720" y="3780000"/>
            <a:chExt cx="884160" cy="895320"/>
          </a:xfrm>
        </p:grpSpPr>
        <p:pic>
          <p:nvPicPr>
            <p:cNvPr id="114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303720" y="3780000"/>
              <a:ext cx="884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8853200">
              <a:off x="3318840" y="408672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времени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когда? как долго? с каких пор? до каких по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когда, едва, как только, прежде чем, в то время ка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Когда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она выходила из дома, ее уже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встреча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0" y="2690640"/>
            <a:ext cx="39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Стрелка вправо 4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20" name="Стрелка вправо 4" descr=""/>
            <p:cNvPicPr/>
            <p:nvPr/>
          </p:nvPicPr>
          <p:blipFill>
            <a:blip r:embed="rId1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трелка вниз 5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23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трелка вправо 6"/>
          <p:cNvGrpSpPr/>
          <p:nvPr/>
        </p:nvGrpSpPr>
        <p:grpSpPr>
          <a:xfrm>
            <a:off x="3614760" y="3870360"/>
            <a:ext cx="774720" cy="1030320"/>
            <a:chOff x="3614760" y="3870360"/>
            <a:chExt cx="774720" cy="1030320"/>
          </a:xfrm>
        </p:grpSpPr>
        <p:pic>
          <p:nvPicPr>
            <p:cNvPr id="126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614760" y="3870360"/>
              <a:ext cx="7747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17890200">
              <a:off x="3551040" y="4266720"/>
              <a:ext cx="857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3708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причины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почему? отчего? по какой причин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потому что, так как, ибо, из-за того ч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Всякий труд важен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ибо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облагораживает челове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79280" y="2690640"/>
            <a:ext cx="381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трелка вправо 4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32" name="Стрелка вправо 4" descr=""/>
            <p:cNvPicPr/>
            <p:nvPr/>
          </p:nvPicPr>
          <p:blipFill>
            <a:blip r:embed="rId1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Стрелка вниз 5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35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Стрелка вправо 6"/>
          <p:cNvGrpSpPr/>
          <p:nvPr/>
        </p:nvGrpSpPr>
        <p:grpSpPr>
          <a:xfrm>
            <a:off x="2955960" y="5315040"/>
            <a:ext cx="1062000" cy="725400"/>
            <a:chOff x="2955960" y="5315040"/>
            <a:chExt cx="1062000" cy="725400"/>
          </a:xfrm>
        </p:grpSpPr>
        <p:pic>
          <p:nvPicPr>
            <p:cNvPr id="138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2955960" y="5315040"/>
              <a:ext cx="1062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20262000">
              <a:off x="3025800" y="5570640"/>
              <a:ext cx="857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идаточные образа действия и степени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как? каким образом? в какой степен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как, насколько, посколь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Дядюшка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пел так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как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поет простой наро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0" y="2205000"/>
            <a:ext cx="392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трелка вправо 4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44" name="Стрелка вправо 4" descr=""/>
            <p:cNvPicPr/>
            <p:nvPr/>
          </p:nvPicPr>
          <p:blipFill>
            <a:blip r:embed="rId1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трелка вниз 5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47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трелка вправо 6"/>
          <p:cNvGrpSpPr/>
          <p:nvPr/>
        </p:nvGrpSpPr>
        <p:grpSpPr>
          <a:xfrm>
            <a:off x="2981160" y="4863960"/>
            <a:ext cx="1047960" cy="762120"/>
            <a:chOff x="2981160" y="4863960"/>
            <a:chExt cx="1047960" cy="762120"/>
          </a:xfrm>
        </p:grpSpPr>
        <p:pic>
          <p:nvPicPr>
            <p:cNvPr id="150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2981160" y="4863960"/>
              <a:ext cx="1047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20055000">
              <a:off x="3051000" y="5132520"/>
              <a:ext cx="85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38527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следствия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что из этого следуе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так ч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Погода была холодная, ветреная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так 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сугробов намело выше окон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179280" y="2276640"/>
            <a:ext cx="36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56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Стрелка вправо 5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59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Стрелка вправо 6"/>
          <p:cNvGrpSpPr/>
          <p:nvPr/>
        </p:nvGrpSpPr>
        <p:grpSpPr>
          <a:xfrm>
            <a:off x="3286080" y="4035600"/>
            <a:ext cx="773280" cy="1036440"/>
            <a:chOff x="3286080" y="4035600"/>
            <a:chExt cx="773280" cy="1036440"/>
          </a:xfrm>
        </p:grpSpPr>
        <p:pic>
          <p:nvPicPr>
            <p:cNvPr id="162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286080" y="4035600"/>
              <a:ext cx="7732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17839800">
              <a:off x="3219840" y="444024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Придаточные сравнения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как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как, словно, будто, чем - т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Чем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проще слово, 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тем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более оно почетн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50920" y="2690640"/>
            <a:ext cx="352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68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Стрелка вправо 5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71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Стрелка вправо 6"/>
          <p:cNvGrpSpPr/>
          <p:nvPr/>
        </p:nvGrpSpPr>
        <p:grpSpPr>
          <a:xfrm>
            <a:off x="3333600" y="4413240"/>
            <a:ext cx="804960" cy="1012680"/>
            <a:chOff x="3333600" y="4413240"/>
            <a:chExt cx="804960" cy="1012680"/>
          </a:xfrm>
        </p:grpSpPr>
        <p:pic>
          <p:nvPicPr>
            <p:cNvPr id="174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333600" y="4413240"/>
              <a:ext cx="8049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18085200">
              <a:off x="3289320" y="4798440"/>
              <a:ext cx="8571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7814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Придаточные цели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зачем? для чего? с какой целью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чтобы, для того чтобы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Всякое дело надо любить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 чтобы 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хорошо его дел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Прямоугольник 3"/>
          <p:cNvSpPr/>
          <p:nvPr/>
        </p:nvSpPr>
        <p:spPr>
          <a:xfrm>
            <a:off x="179280" y="2690640"/>
            <a:ext cx="37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80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право 5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83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Стрелка вправо 6"/>
          <p:cNvGrpSpPr/>
          <p:nvPr/>
        </p:nvGrpSpPr>
        <p:grpSpPr>
          <a:xfrm>
            <a:off x="3303720" y="4438800"/>
            <a:ext cx="841320" cy="968400"/>
            <a:chOff x="3303720" y="4438800"/>
            <a:chExt cx="841320" cy="968400"/>
          </a:xfrm>
        </p:grpSpPr>
        <p:pic>
          <p:nvPicPr>
            <p:cNvPr id="186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303720" y="4438800"/>
              <a:ext cx="841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rot="18366000">
              <a:off x="3285360" y="479628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3708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условия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при каком услови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если, коли, раз, когда (= если)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солнце не потушат,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будут зайчики всегда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179280" y="2690640"/>
            <a:ext cx="37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92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Стрелка вправо 5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195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трелка вправо 6"/>
          <p:cNvGrpSpPr/>
          <p:nvPr/>
        </p:nvGrpSpPr>
        <p:grpSpPr>
          <a:xfrm>
            <a:off x="3322800" y="4309920"/>
            <a:ext cx="798480" cy="1011240"/>
            <a:chOff x="3322800" y="4309920"/>
            <a:chExt cx="798480" cy="1011240"/>
          </a:xfrm>
        </p:grpSpPr>
        <p:pic>
          <p:nvPicPr>
            <p:cNvPr id="198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322800" y="4309920"/>
              <a:ext cx="7984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18060000">
              <a:off x="3273840" y="469584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Придаточные уступки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несмотря на что? вопреки 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хотя, несмотря на то что, пускай, пусть, что ни, как ни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или к сказуемому, или ко всему главному предлож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Пускай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 еще не высохли чернила,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словам уже бессмертие дано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179280" y="2205000"/>
            <a:ext cx="36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204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Стрелка вправо 5"/>
          <p:cNvGrpSpPr/>
          <p:nvPr/>
        </p:nvGrpSpPr>
        <p:grpSpPr>
          <a:xfrm>
            <a:off x="2919240" y="2803680"/>
            <a:ext cx="1006560" cy="804600"/>
            <a:chOff x="2919240" y="2803680"/>
            <a:chExt cx="1006560" cy="804600"/>
          </a:xfrm>
        </p:grpSpPr>
        <p:pic>
          <p:nvPicPr>
            <p:cNvPr id="207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2919240" y="2803680"/>
              <a:ext cx="10065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19689600">
              <a:off x="2979360" y="3082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трелка вправо 6"/>
          <p:cNvGrpSpPr/>
          <p:nvPr/>
        </p:nvGrpSpPr>
        <p:grpSpPr>
          <a:xfrm>
            <a:off x="3322800" y="3943440"/>
            <a:ext cx="785520" cy="1025280"/>
            <a:chOff x="3322800" y="3943440"/>
            <a:chExt cx="785520" cy="1025280"/>
          </a:xfrm>
        </p:grpSpPr>
        <p:pic>
          <p:nvPicPr>
            <p:cNvPr id="210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322800" y="3943440"/>
              <a:ext cx="78552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7921400">
              <a:off x="3264840" y="433908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370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троение сложноподчиненного предложения, знаки препинания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СПП включает в себя главное и придаточное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ые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)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предложения.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Придаточные подчиняются главному и отвечают на вопросы членов предложения.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57440" y="404640"/>
            <a:ext cx="4786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Придаточное предложение стоит после главного: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ужно читать книги,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оторые учат понимать смысл жизн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даточное предложение стоит в середине главног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ом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который стоял на бугре,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был виден издал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даточное предложение стоит перед главны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Если пойдет дождь,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ы будем сидеть до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3216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дчинительные союзы:</a:t>
            </a:r>
            <a:br>
              <a:rPr sz="2800"/>
            </a:b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простые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составны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оюзные слова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Скругленный прямоугольник 3"/>
          <p:cNvSpPr/>
          <p:nvPr/>
        </p:nvSpPr>
        <p:spPr>
          <a:xfrm>
            <a:off x="4140360" y="333360"/>
            <a:ext cx="475272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ому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Чтобы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того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бо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гда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шь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ка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тех пор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ловн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в  связи с тем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Если и др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4"/>
          <p:cNvSpPr/>
          <p:nvPr/>
        </p:nvSpPr>
        <p:spPr>
          <a:xfrm>
            <a:off x="4140360" y="3357720"/>
            <a:ext cx="4679640" cy="29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то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гда и 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5"/>
          <p:cNvSpPr/>
          <p:nvPr/>
        </p:nvSpPr>
        <p:spPr>
          <a:xfrm rot="20026800">
            <a:off x="2787480" y="2580840"/>
            <a:ext cx="1773360" cy="484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6"/>
          <p:cNvSpPr/>
          <p:nvPr/>
        </p:nvSpPr>
        <p:spPr>
          <a:xfrm rot="20092200">
            <a:off x="3051000" y="3003480"/>
            <a:ext cx="38674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7"/>
          <p:cNvSpPr/>
          <p:nvPr/>
        </p:nvSpPr>
        <p:spPr>
          <a:xfrm>
            <a:off x="3851280" y="4941720"/>
            <a:ext cx="144144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дчинительные союзы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br>
              <a:rPr sz="2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не являются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членами предложения, присоединяют придаточное предложение  к главному или другому придаточному</a:t>
            </a:r>
            <a:br>
              <a:rPr sz="2400"/>
            </a:b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оюзные слов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являются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членами предложения, присоединяют придаточное предложение к главному или другому придаточн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ы любим дом,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где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любят на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421164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 Black"/>
              </a:rPr>
              <a:t>Виды придаточных предложений: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1.подлежащ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2.сказуем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3.определитель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4.дополнительны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5.обстоятельственные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1.Что ты в деревню хочешь, это хорош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2.Время такое, что людям беседовать неког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3.Узкая дорожка, которая вилась под ногами, была вся засыпана снег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4.Автор обещал, что рукопись будет представлена в ср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5. Когда мы расставались, от вас веяло холод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3924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подлежащные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Arial Black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 Black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 Black"/>
              </a:rPr>
              <a:t>Относятся в главном предложении</a:t>
            </a:r>
            <a:endParaRPr b="1" lang="en-US" sz="32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 Black"/>
              </a:rPr>
              <a:t>1. подлежащего (кто? что?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 Black"/>
              </a:rPr>
              <a:t>2. кто, что, будто, чтобы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 Black"/>
              </a:rPr>
              <a:t>3. к местоимению – подлежащ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Чт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ты в деревню хочешь,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эт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хорош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9" name="Стрелка вниз 3"/>
          <p:cNvGrpSpPr/>
          <p:nvPr/>
        </p:nvGrpSpPr>
        <p:grpSpPr>
          <a:xfrm>
            <a:off x="3346560" y="1487520"/>
            <a:ext cx="1036440" cy="762120"/>
            <a:chOff x="3346560" y="1487520"/>
            <a:chExt cx="1036440" cy="762120"/>
          </a:xfrm>
        </p:grpSpPr>
        <p:pic>
          <p:nvPicPr>
            <p:cNvPr id="60" name="Стрелка вниз 3" descr=""/>
            <p:cNvPicPr/>
            <p:nvPr/>
          </p:nvPicPr>
          <p:blipFill>
            <a:blip r:embed="rId1"/>
            <a:stretch/>
          </p:blipFill>
          <p:spPr>
            <a:xfrm>
              <a:off x="3346560" y="1487520"/>
              <a:ext cx="10364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4606400">
              <a:off x="3718080" y="1444680"/>
              <a:ext cx="2430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Стрелка вправо 4"/>
          <p:cNvGrpSpPr/>
          <p:nvPr/>
        </p:nvGrpSpPr>
        <p:grpSpPr>
          <a:xfrm>
            <a:off x="3139920" y="2730600"/>
            <a:ext cx="1005120" cy="804600"/>
            <a:chOff x="3139920" y="2730600"/>
            <a:chExt cx="1005120" cy="804600"/>
          </a:xfrm>
        </p:grpSpPr>
        <p:pic>
          <p:nvPicPr>
            <p:cNvPr id="63" name="Стрелка вправо 4" descr=""/>
            <p:cNvPicPr/>
            <p:nvPr/>
          </p:nvPicPr>
          <p:blipFill>
            <a:blip r:embed="rId2"/>
            <a:stretch/>
          </p:blipFill>
          <p:spPr>
            <a:xfrm>
              <a:off x="3139920" y="2730600"/>
              <a:ext cx="10051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9689600">
              <a:off x="3195360" y="301104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Стрелка вправо 5"/>
          <p:cNvGrpSpPr/>
          <p:nvPr/>
        </p:nvGrpSpPr>
        <p:grpSpPr>
          <a:xfrm>
            <a:off x="3444840" y="3846600"/>
            <a:ext cx="907920" cy="877680"/>
            <a:chOff x="3444840" y="3846600"/>
            <a:chExt cx="907920" cy="877680"/>
          </a:xfrm>
        </p:grpSpPr>
        <p:pic>
          <p:nvPicPr>
            <p:cNvPr id="66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3444840" y="3846600"/>
              <a:ext cx="9079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19020600">
              <a:off x="3470400" y="414792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3637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идаточные сказуемные</a:t>
            </a:r>
            <a:endParaRPr b="1" lang="en-US" sz="2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сказуемо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кто, каков, какой, который, что, чтобы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к указательным местоимениям – сказуемы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Время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такое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что 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людям беседовать неког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79280" y="2060640"/>
            <a:ext cx="36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Стрелка вниз 4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72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трелка вправо 5"/>
          <p:cNvGrpSpPr/>
          <p:nvPr/>
        </p:nvGrpSpPr>
        <p:grpSpPr>
          <a:xfrm>
            <a:off x="3139920" y="2944800"/>
            <a:ext cx="1005120" cy="809640"/>
            <a:chOff x="3139920" y="2944800"/>
            <a:chExt cx="1005120" cy="809640"/>
          </a:xfrm>
        </p:grpSpPr>
        <p:pic>
          <p:nvPicPr>
            <p:cNvPr id="75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3139920" y="2944800"/>
              <a:ext cx="1005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19689600">
              <a:off x="3195360" y="3227040"/>
              <a:ext cx="857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трелка вправо 6"/>
          <p:cNvGrpSpPr/>
          <p:nvPr/>
        </p:nvGrpSpPr>
        <p:grpSpPr>
          <a:xfrm>
            <a:off x="3230640" y="3992400"/>
            <a:ext cx="907920" cy="878040"/>
            <a:chOff x="3230640" y="3992400"/>
            <a:chExt cx="907920" cy="878040"/>
          </a:xfrm>
        </p:grpSpPr>
        <p:pic>
          <p:nvPicPr>
            <p:cNvPr id="78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230640" y="3992400"/>
              <a:ext cx="907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19020600">
              <a:off x="3254040" y="4292280"/>
              <a:ext cx="857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39243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идаточные определительные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1. опред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2. какой, который, чей, что, где, когда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Black"/>
              </a:rPr>
              <a:t>3. к существительн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Раздался такой 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крик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се вздрогну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179280" y="2060640"/>
            <a:ext cx="36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низ 4"/>
          <p:cNvGrpSpPr/>
          <p:nvPr/>
        </p:nvGrpSpPr>
        <p:grpSpPr>
          <a:xfrm>
            <a:off x="3200400" y="1195560"/>
            <a:ext cx="1036800" cy="766440"/>
            <a:chOff x="3200400" y="1195560"/>
            <a:chExt cx="1036800" cy="766440"/>
          </a:xfrm>
        </p:grpSpPr>
        <p:pic>
          <p:nvPicPr>
            <p:cNvPr id="84" name="Стрелка вниз 4" descr=""/>
            <p:cNvPicPr/>
            <p:nvPr/>
          </p:nvPicPr>
          <p:blipFill>
            <a:blip r:embed="rId1"/>
            <a:stretch/>
          </p:blipFill>
          <p:spPr>
            <a:xfrm>
              <a:off x="3200400" y="1195560"/>
              <a:ext cx="103680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14606400">
              <a:off x="3574800" y="1158840"/>
              <a:ext cx="241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трелка вправо 5"/>
          <p:cNvGrpSpPr/>
          <p:nvPr/>
        </p:nvGrpSpPr>
        <p:grpSpPr>
          <a:xfrm>
            <a:off x="3432240" y="1798560"/>
            <a:ext cx="1023840" cy="792360"/>
            <a:chOff x="3432240" y="1798560"/>
            <a:chExt cx="1023840" cy="792360"/>
          </a:xfrm>
        </p:grpSpPr>
        <p:pic>
          <p:nvPicPr>
            <p:cNvPr id="87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3432240" y="1798560"/>
              <a:ext cx="10238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19812600">
              <a:off x="3495600" y="2074680"/>
              <a:ext cx="857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трелка вправо 6"/>
          <p:cNvGrpSpPr/>
          <p:nvPr/>
        </p:nvGrpSpPr>
        <p:grpSpPr>
          <a:xfrm>
            <a:off x="3456000" y="2895480"/>
            <a:ext cx="853920" cy="951120"/>
            <a:chOff x="3456000" y="2895480"/>
            <a:chExt cx="853920" cy="951120"/>
          </a:xfrm>
        </p:grpSpPr>
        <p:pic>
          <p:nvPicPr>
            <p:cNvPr id="90" name="Стрелка вправо 6" descr=""/>
            <p:cNvPicPr/>
            <p:nvPr/>
          </p:nvPicPr>
          <p:blipFill>
            <a:blip r:embed="rId3"/>
            <a:stretch/>
          </p:blipFill>
          <p:spPr>
            <a:xfrm>
              <a:off x="3456000" y="2895480"/>
              <a:ext cx="8539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18534600">
              <a:off x="3449520" y="3240000"/>
              <a:ext cx="857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8527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идаточные дополнительные</a:t>
            </a:r>
            <a:endParaRPr b="1" lang="en-US" sz="2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 Black"/>
              </a:rPr>
              <a:t>1. дополн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2.кто, что, как, будто, чтобы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 Black"/>
              </a:rPr>
              <a:t>ли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3. чаще к глаголу-сказуемо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Люблю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когда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сосна шуми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ужество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 Black"/>
              </a:rPr>
              <a:t>не спрашивает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, высока </a:t>
            </a: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ли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скал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4" name="Стрелка вправо 3"/>
          <p:cNvGrpSpPr/>
          <p:nvPr/>
        </p:nvGrpSpPr>
        <p:grpSpPr>
          <a:xfrm>
            <a:off x="3297240" y="3773520"/>
            <a:ext cx="909720" cy="877680"/>
            <a:chOff x="3297240" y="3773520"/>
            <a:chExt cx="909720" cy="877680"/>
          </a:xfrm>
        </p:grpSpPr>
        <p:pic>
          <p:nvPicPr>
            <p:cNvPr id="95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3297240" y="3773520"/>
              <a:ext cx="9097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19020600">
              <a:off x="3325320" y="4076280"/>
              <a:ext cx="857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4"/>
          <p:cNvSpPr/>
          <p:nvPr/>
        </p:nvSpPr>
        <p:spPr>
          <a:xfrm>
            <a:off x="0" y="2133720"/>
            <a:ext cx="39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1f497d"/>
                </a:solidFill>
                <a:uFillTx/>
                <a:latin typeface="Arial"/>
              </a:rPr>
              <a:t>Вопросы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юзы и союзные сло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.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тносятся в главном пред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Стрелка вправо 5"/>
          <p:cNvGrpSpPr/>
          <p:nvPr/>
        </p:nvGrpSpPr>
        <p:grpSpPr>
          <a:xfrm>
            <a:off x="3425760" y="2225520"/>
            <a:ext cx="1006560" cy="809640"/>
            <a:chOff x="3425760" y="2225520"/>
            <a:chExt cx="1006560" cy="809640"/>
          </a:xfrm>
        </p:grpSpPr>
        <p:pic>
          <p:nvPicPr>
            <p:cNvPr id="99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3425760" y="2225520"/>
              <a:ext cx="10065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19689600">
              <a:off x="3482640" y="2507760"/>
              <a:ext cx="8571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трелка вниз 6"/>
          <p:cNvGrpSpPr/>
          <p:nvPr/>
        </p:nvGrpSpPr>
        <p:grpSpPr>
          <a:xfrm>
            <a:off x="3054240" y="1627200"/>
            <a:ext cx="1041480" cy="768240"/>
            <a:chOff x="3054240" y="1627200"/>
            <a:chExt cx="1041480" cy="768240"/>
          </a:xfrm>
        </p:grpSpPr>
        <p:pic>
          <p:nvPicPr>
            <p:cNvPr id="102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3054240" y="1627200"/>
              <a:ext cx="1041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14606400">
              <a:off x="3431160" y="1589760"/>
              <a:ext cx="2426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39:22Z</dcterms:created>
  <dc:creator>Марина</dc:creator>
  <dc:description/>
  <dc:language>en-US</dc:language>
  <cp:lastModifiedBy>DNS</cp:lastModifiedBy>
  <dcterms:modified xsi:type="dcterms:W3CDTF">2011-10-17T16:38:29Z</dcterms:modified>
  <cp:revision>30</cp:revision>
  <dc:subject/>
  <dc:title>Noteb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11049</vt:lpwstr>
  </property>
</Properties>
</file>